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BF65-6C35-44D9-BB39-C96B97F5E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64FD-A74B-41D5-A09D-B23FC2AC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647B-D4AF-4C85-AB40-846B2BE5A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B8E0-A0B9-49A1-AC06-010035924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1F25-C714-408B-B734-71D72C10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7F7A-880F-4074-81F8-B8A9E654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DFD3-009A-4E70-98D7-CC2CC699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13B1-E2F0-4B97-9B63-55BC8FF1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DF95-56AA-4B5A-94EE-FEAD3D41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B793-6EC4-4095-9EDD-CF0F31BF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8E9C-39CA-4736-BEFC-4A163C03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14B4-F3FA-4048-AA8B-A4C56907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E573-9404-456E-A370-977EEB08B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91658" dir="2017659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Eras Bold ITC"/>
              </a:rPr>
              <a:t>FIRE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7760"/>
            <a:ext cx="6400800" cy="2514600"/>
          </a:xfrm>
          <a:prstGeom prst="rect">
            <a:avLst/>
          </a:prstGeom>
          <a:noFill/>
          <a:ln w="0">
            <a:noFill/>
          </a:ln>
          <a:effectLst>
            <a:outerShdw dist="64600" dir="674838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Eras Bold ITC"/>
              </a:rPr>
              <a:t>How do firefighters use math in fighting fi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ras Bold ITC"/>
              </a:rPr>
              <a:t>by Dianne Buzz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Using the Pythagorean Theorem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295280"/>
            <a:ext cx="830592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refighter 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ythagorean Theorem: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+ b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= c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height of each floor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width of building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length of fire escape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4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+ 3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c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96 + 900 = c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≈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***The length in feet of the fire escape is about 33 feet.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029200" y="2895480"/>
            <a:ext cx="2657520" cy="2895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181480" y="5867280"/>
            <a:ext cx="3505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00"/>
                </a:solidFill>
                <a:latin typeface="Arial"/>
              </a:rPr>
              <a:t>© 2002 Riverdeep Interactive Learning Limited, and its licensors.  All rights reserved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e discovered these additional math skills that firefighters us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8840" y="18288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rea and vol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ver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c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x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ac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p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egative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erc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l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atistical grap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3178440" cy="5334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133720" y="6400800"/>
            <a:ext cx="2286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00"/>
                </a:solidFill>
                <a:latin typeface="Arial"/>
              </a:rPr>
              <a:t>© 2002 Riverdeep Interactive Learning Limited, and its licensors.  All rights reserved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ources 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"Certification of Training and Education Programs."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Tennessee Department of Stat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Mar 1999. Commission on Fire Fighting. 17 Feb 2008 &lt;http://www.state.tn.us/sos/rules/0360/0360-02-01.pdf&gt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"FIRE!."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PrimeTime Math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Ed. David A. Dockterman. Watertown, MA: Tom Snyder Productions, 1997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ui, T. L. "Firefighting occupations."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XP Math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2007. 10 Feb 2008 &lt;http://www.xpmath.com/careers/jobsresult.php?groupID=3&amp;jobID=9&gt;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ictures collected fro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ClickArt 400,00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2002. Riverdeep Interactive Learning Limited, and its licen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n our fire fighting simulation, we used these math skill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14600" y="2057400"/>
            <a:ext cx="60199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mulas (using basic algeb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rder of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easurements and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ythagorean theo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90920" y="447840"/>
            <a:ext cx="1981080" cy="6410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1981440" cy="641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6673680"/>
            <a:ext cx="3200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00"/>
                </a:solidFill>
                <a:latin typeface="Arial"/>
              </a:rPr>
              <a:t>© 2002 Riverdeep Interactive Learning Limited, and its licensors.  All rights reserved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952520" y="12193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refighter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ea=(length)(width)=(40)(30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200; so the horizontal factor=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ertical factor = 50(2) =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ertical + horizontal = 100 + 50 = 150 f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Using formula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>
            <a:alphaModFix amt="60000"/>
          </a:blip>
          <a:stretch/>
        </p:blipFill>
        <p:spPr>
          <a:xfrm>
            <a:off x="609480" y="2590920"/>
            <a:ext cx="4038840" cy="2463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2280" y="5334120"/>
            <a:ext cx="5105520" cy="12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***150 feet of attack line required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509760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5105520"/>
            <a:ext cx="3505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00"/>
                </a:solidFill>
                <a:latin typeface="Arial"/>
              </a:rPr>
              <a:t>© 2002 Riverdeep Interactive Learning Limited, and its licensors.  All rights reserved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Using formula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5181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refighter 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 =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G + 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 = size of nozzle tip in i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G = gallons per minute from t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 =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200 + 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 = 1 inch nozzle t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***1 inch nozzle tip needed.*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876920" y="1752480"/>
          <a:ext cx="313668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752480"/>
                    <a:ext cx="31366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4952880" y="5181480"/>
            <a:ext cx="312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00"/>
                </a:solidFill>
                <a:latin typeface="Arial"/>
              </a:rPr>
              <a:t>© 2002 Riverdeep Interactive Learning Limited, and its licensors.  All rights reserved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Using formula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1600200"/>
            <a:ext cx="4267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refighter 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length of attack line) = (.1)(150) = 15 p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***Friction loss in psi for total length of attack line = 15 psi*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664080" cy="3886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867280" y="5715000"/>
            <a:ext cx="312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00"/>
                </a:solidFill>
                <a:latin typeface="Arial"/>
              </a:rPr>
              <a:t>© 2002 Riverdeep Interactive Learning Limited, and its licensors.  All rights reserved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Using formula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1523880"/>
            <a:ext cx="4267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refighter 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length of supply line) = (.04)(100) = 4 p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***Friction loss in psi for total length of supply line = 4 psi*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3386160" cy="40388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62120" y="6019920"/>
            <a:ext cx="3276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00"/>
                </a:solidFill>
                <a:latin typeface="Arial"/>
              </a:rPr>
              <a:t>© 2002 Riverdeep Interactive Learning Limited, and its licensors.  All rights reserved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Using rat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refighter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inutes remaining in tank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Total breaths in tank – Breaths already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reathing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240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 baseline="-26000">
                <a:solidFill>
                  <a:srgbClr val="ffff00"/>
                </a:solidFill>
                <a:latin typeface="Arial"/>
              </a:rPr>
              <a:t>=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6.86 minu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***Rasheed has about 6.9 minutes left un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burdene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breathing conditions.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791320" y="457200"/>
            <a:ext cx="2089080" cy="2362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562720" y="2895480"/>
            <a:ext cx="3276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00"/>
                </a:solidFill>
                <a:latin typeface="Arial"/>
              </a:rPr>
              <a:t>© 2002 Riverdeep Interactive Learning Limited, and its licensors.  All rights reserved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Using the Pythagorean Theorem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1447920"/>
            <a:ext cx="83059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refighter 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ythagorean Theorem: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+b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= c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height of floor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+ (length of bldg.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              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 (length of stairs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4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+ 4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c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96 + 1600 = c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≈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***The length in feet of the inside stairs is about 42 feet.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3505320"/>
            <a:ext cx="2438280" cy="2427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28600" y="5943600"/>
            <a:ext cx="3276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00"/>
                </a:solidFill>
                <a:latin typeface="Arial"/>
              </a:rPr>
              <a:t>© 2002 Riverdeep Interactive Learning Limited, and its licensors.  All rights reserved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Using the Pythagorean Theorem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295280"/>
            <a:ext cx="830592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refighter 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ythagorean Theorem: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+b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= c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height where ladder will touch bldg.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distance from base of ladder to base of bldg.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(length of ladder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6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24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36 = 5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≈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23 f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**The distance from the base of the building to where the ladder will touch the building is 23 feet.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324480" y="2133720"/>
            <a:ext cx="2286000" cy="35049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095880" y="5715000"/>
            <a:ext cx="3200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00"/>
                </a:solidFill>
                <a:latin typeface="Arial"/>
              </a:rPr>
              <a:t>© 2002 Riverdeep Interactive Learning Limited, and its licensors.  All rights reserved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03:11:14Z</dcterms:created>
  <dc:creator>Greenville Schools</dc:creator>
  <dc:description/>
  <dc:language>en-US</dc:language>
  <cp:lastModifiedBy>Greenville Schools</cp:lastModifiedBy>
  <dcterms:modified xsi:type="dcterms:W3CDTF">2008-03-04T03:52:05Z</dcterms:modified>
  <cp:revision>42</cp:revision>
  <dc:subject/>
  <dc:title>Slide 1</dc:title>
</cp:coreProperties>
</file>